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88D-7775-4881-A214-DBDA25DA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60B-E0FC-46C2-A7E4-E2C4747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535-31A1-4600-B5DC-AE9D964C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AE4-7302-4DD4-9996-B15DE9AB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1BB-49DB-4D7E-ABF2-51E5EC8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0F7-5C39-4A93-B64D-F768113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0BB-9A05-4569-9880-AEB251D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4E5-562D-41CF-B932-375CD796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7C8-E50D-4E79-B9EA-6F0FFDE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344-F2EF-463E-BD4C-56A18087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239-7A7C-4308-B997-6077B046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8AD-0A2F-4E83-A7FE-3694B741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2B9-4D42-47DA-A8B4-9DEA26D19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ohr-Rutherfor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6960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igure out how to use the spectro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ormation do they giv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gas tubes get hot and are fragile.  Also, take care to NOT turn on the switch until the tube is in place and don’t touch i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more lines than the Bohr-Model predicts in it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iology Today, Tom Lewis, Bohr model of a hydrogen atom by A Journey Round My Skull."/>
          <p:cNvPicPr/>
          <p:nvPr/>
        </p:nvPicPr>
        <p:blipFill>
          <a:blip r:embed="rId1"/>
          <a:stretch/>
        </p:blipFill>
        <p:spPr>
          <a:xfrm>
            <a:off x="5003640" y="189000"/>
            <a:ext cx="3254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Hydroge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74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Oxyge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Neo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121440" cy="458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31:21Z</dcterms:created>
  <dc:creator>FradkiL</dc:creator>
  <dc:description/>
  <dc:language>en-US</dc:language>
  <cp:lastModifiedBy>User</cp:lastModifiedBy>
  <dcterms:modified xsi:type="dcterms:W3CDTF">2010-09-08T13:09:55Z</dcterms:modified>
  <cp:revision>4</cp:revision>
  <dc:subject/>
  <dc:title>Bohr-Rutherford Model</dc:title>
</cp:coreProperties>
</file>